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B4C6-F3DC-4001-B31A-EFBFBCC71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483-0831-4EBA-8EE2-B61D9DB5B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272-8A91-430E-85AB-DB8FC75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976-6D38-45E4-B09E-3AE652A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6F6-93F6-4705-96E7-39852356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6F7-E570-47AE-A153-68047FB5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EFE-F2B9-4055-ABB4-A10B1F81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577-9368-4984-96ED-F1E80937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EF9-43B2-42B8-A62F-A9CDE27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F94-2DE9-4924-9B9E-1D6D4BEB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46B-59CC-4394-8F9E-AB4FA470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A5F-6B04-415D-A736-F40A943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F95-2253-40BB-89B3-0CF304A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EE6-0EA6-4112-AA73-75484EA2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976-4ECB-41E5-9863-79D06CE2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rt_museum.jpg"/>
          <p:cNvPicPr/>
          <p:nvPr/>
        </p:nvPicPr>
        <p:blipFill>
          <a:blip r:embed="rId2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3"/>
          <a:stretch/>
        </p:blipFill>
        <p:spPr>
          <a:xfrm>
            <a:off x="2816280" y="2279520"/>
            <a:ext cx="351144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lick_Lensington-SUIT.gif"/>
          <p:cNvPicPr/>
          <p:nvPr/>
        </p:nvPicPr>
        <p:blipFill>
          <a:blip r:embed="rId4"/>
          <a:stretch/>
        </p:blipFill>
        <p:spPr>
          <a:xfrm>
            <a:off x="2209680" y="4273560"/>
            <a:ext cx="609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52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c8c93"/>
                  </a:solidFill>
                  <a:latin typeface="Arial"/>
                </a:rPr>
                <a:t>Art of Eur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C:\Documents and Settings\cstocke\Local Settings\Temporary Internet Files\Content.IE5\CHEN8LIR\MCDD01742_0000[1].wmf"/>
          <p:cNvPicPr/>
          <p:nvPr/>
        </p:nvPicPr>
        <p:blipFill>
          <a:blip r:embed="rId3"/>
          <a:stretch/>
        </p:blipFill>
        <p:spPr>
          <a:xfrm>
            <a:off x="457200" y="1295280"/>
            <a:ext cx="3809880" cy="472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ttp://www.tutorio.com/media/photoshop/20050102-note-paper.gif"/>
          <p:cNvPicPr/>
          <p:nvPr/>
        </p:nvPicPr>
        <p:blipFill>
          <a:blip r:embed="rId4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58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61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4"/>
            <p:cNvSpPr/>
            <p:nvPr/>
          </p:nvSpPr>
          <p:spPr>
            <a:xfrm>
              <a:off x="5790960" y="6400800"/>
              <a:ext cx="16765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</a:t>
              </a:r>
              <a:r>
                <a:rPr b="0" lang="en-US" sz="1000" spc="-1" strike="noStrike" u="sng">
                  <a:solidFill>
                    <a:srgbClr val="009999"/>
                  </a:solidFill>
                  <a:uFillTx/>
                  <a:latin typeface="Arial Black"/>
                  <a:hlinkClick r:id="rId5" action="ppaction://hlinksldjump"/>
                </a:rPr>
                <a:t>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64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Cultur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69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72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Documents and Settings\cstocke\Local Settings\Temporary Internet Files\Content.IE5\CHEN8LIR\MCj03978360000[1].wmf"/>
          <p:cNvPicPr/>
          <p:nvPr/>
        </p:nvPicPr>
        <p:blipFill>
          <a:blip r:embed="rId4"/>
          <a:stretch/>
        </p:blipFill>
        <p:spPr>
          <a:xfrm rot="16200000">
            <a:off x="181800" y="1951920"/>
            <a:ext cx="4430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76" name="Rectangle 2" descr=""/>
            <p:cNvPicPr/>
            <p:nvPr/>
          </p:nvPicPr>
          <p:blipFill>
            <a:blip r:embed="rId2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Geograph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29" descr="http://www.tutorio.com/media/photoshop/20050102-note-paper.gif"/>
          <p:cNvPicPr/>
          <p:nvPr/>
        </p:nvPicPr>
        <p:blipFill>
          <a:blip r:embed="rId3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81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84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4" descr="C:\Documents and Settings\cstocke\Local Settings\Temporary Internet Files\Content.IE5\85YZK9Q3\MCSO01874_0000[1].wmf"/>
          <p:cNvPicPr/>
          <p:nvPr/>
        </p:nvPicPr>
        <p:blipFill>
          <a:blip r:embed="rId4"/>
          <a:stretch/>
        </p:blipFill>
        <p:spPr>
          <a:xfrm>
            <a:off x="457200" y="1371600"/>
            <a:ext cx="3738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88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History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93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96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4" descr="C:\Documents and Settings\cstocke\Local Settings\Temporary Internet Files\Content.IE5\AZWRAVGT\MCj03978380000[1].wmf"/>
          <p:cNvPicPr/>
          <p:nvPr/>
        </p:nvPicPr>
        <p:blipFill>
          <a:blip r:embed="rId3"/>
          <a:stretch/>
        </p:blipFill>
        <p:spPr>
          <a:xfrm rot="16200000">
            <a:off x="183240" y="2026080"/>
            <a:ext cx="4567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Rectangle 2"/>
          <p:cNvGrpSpPr/>
          <p:nvPr/>
        </p:nvGrpSpPr>
        <p:grpSpPr>
          <a:xfrm>
            <a:off x="2743200" y="378000"/>
            <a:ext cx="4194000" cy="768240"/>
            <a:chOff x="2743200" y="378000"/>
            <a:chExt cx="4194000" cy="768240"/>
          </a:xfrm>
        </p:grpSpPr>
        <p:pic>
          <p:nvPicPr>
            <p:cNvPr id="100" name="Rectangle 2" descr=""/>
            <p:cNvPicPr/>
            <p:nvPr/>
          </p:nvPicPr>
          <p:blipFill>
            <a:blip r:embed="rId1"/>
            <a:stretch/>
          </p:blipFill>
          <p:spPr>
            <a:xfrm>
              <a:off x="2743200" y="378000"/>
              <a:ext cx="41940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380880"/>
              <a:ext cx="4191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c8c93"/>
                  </a:solidFill>
                  <a:latin typeface="Arial"/>
                </a:rPr>
                <a:t>Science of Euro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9" descr="http://www.tutorio.com/media/photoshop/20050102-note-paper.gif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1"/>
          <p:cNvSpPr/>
          <p:nvPr/>
        </p:nvSpPr>
        <p:spPr>
          <a:xfrm>
            <a:off x="457200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r Dr. Lensingt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1294920" y="5998320"/>
            <a:ext cx="2293560" cy="859320"/>
            <a:chOff x="1294920" y="5998320"/>
            <a:chExt cx="2293560" cy="859320"/>
          </a:xfrm>
        </p:grpSpPr>
        <p:sp>
          <p:nvSpPr>
            <p:cNvPr id="105" name="AutoShape 12"/>
            <p:cNvSpPr/>
            <p:nvPr/>
          </p:nvSpPr>
          <p:spPr>
            <a:xfrm rot="10768200">
              <a:off x="1298520" y="6008760"/>
              <a:ext cx="2286000" cy="838080"/>
            </a:xfrm>
            <a:prstGeom prst="rightArrow">
              <a:avLst>
                <a:gd name="adj1" fmla="val 50000"/>
                <a:gd name="adj2" fmla="val 6819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1675800" y="632376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Back to main hallw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7"/>
          <p:cNvGrpSpPr/>
          <p:nvPr/>
        </p:nvGrpSpPr>
        <p:grpSpPr>
          <a:xfrm>
            <a:off x="5715000" y="6095880"/>
            <a:ext cx="2133720" cy="762120"/>
            <a:chOff x="5715000" y="6095880"/>
            <a:chExt cx="2133720" cy="762120"/>
          </a:xfrm>
        </p:grpSpPr>
        <p:sp>
          <p:nvSpPr>
            <p:cNvPr id="108" name="AutoShape 11"/>
            <p:cNvSpPr/>
            <p:nvPr/>
          </p:nvSpPr>
          <p:spPr>
            <a:xfrm>
              <a:off x="5715000" y="6095880"/>
              <a:ext cx="2133720" cy="762120"/>
            </a:xfrm>
            <a:prstGeom prst="rightArrow">
              <a:avLst>
                <a:gd name="adj1" fmla="val 50000"/>
                <a:gd name="adj2" fmla="val 68178"/>
              </a:avLst>
            </a:prstGeom>
            <a:solidFill>
              <a:srgbClr val="ff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5790960" y="640080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To view next artifa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5" descr="C:\Documents and Settings\cstocke\Local Settings\Temporary Internet Files\Content.IE5\CHEN8LIR\MCj03971100000[1].wmf"/>
          <p:cNvPicPr/>
          <p:nvPr/>
        </p:nvPicPr>
        <p:blipFill>
          <a:blip r:embed="rId3"/>
          <a:stretch/>
        </p:blipFill>
        <p:spPr>
          <a:xfrm rot="16200000">
            <a:off x="207720" y="1848960"/>
            <a:ext cx="4575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7:32:06Z</dcterms:created>
  <dc:creator>Candy Stocker</dc:creator>
  <dc:description/>
  <dc:language>en-US</dc:language>
  <cp:lastModifiedBy>Candy Stocker</cp:lastModifiedBy>
  <dcterms:modified xsi:type="dcterms:W3CDTF">2011-08-09T15:15:21Z</dcterms:modified>
  <cp:revision>118</cp:revision>
  <dc:subject/>
  <dc:title>Museum of World Stuff</dc:title>
</cp:coreProperties>
</file>